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130-952B-4A10-9EC2-5E73741FD9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011A-8673-4EA6-9831-6E6C5EC926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72D-B510-4565-926C-066905BFF6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983-552C-4E1A-9D39-7298A13D38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1520-C6FC-40B2-AE94-3B5B3FD9D3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264-C420-4612-B796-3ACCD5F0D1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http://www.nbportal.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DAF-57CF-4EDD-A743-C6AE352F29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Dz.U. 2011 nr 126 poz. 7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1F9-5C88-4B38-A344-E08B5DDA1B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9B89-A7D5-403C-A14F-F06D36B4FF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308-F4CD-4353-A968-88D434DB12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stawa z dnia 29 sierpnia 1997 r. Prawo bankow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ejsce publikacji  Dz. U. z 2012 r. poz. 1376, z późn. z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z. U. z 2010 r. Nr 257, poz. 17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Bankowy Fundusz Gwarancyjny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ni środki pieniężne przechowywane w banku do kwoty 100 tys. Euro. Środki te są w 100% zabezpieczone przez fundusz. Warto dodać, że instytucje nie należące do funduszu nie zapewniają takiej ochrony-nazywamy je para-bank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098-626F-4CA3-91D8-58EDA3824C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A02-18A4-48EA-936C-008D4197E8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83A-E1A0-4B5D-B863-2589AA06F0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AAB9-864D-40C5-85B6-943FE524CB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CC9-7471-4E6C-82BC-5F68EC74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4D3-54F0-4609-BB7F-61373618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5E7-83A7-49B5-BCCD-AFF1158D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5B4-17F2-47F1-AC6F-8B7B5CEE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18C-8347-47DC-BE91-670FE05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4CE-8C3D-44B7-ABB8-E09582C8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8DD-7475-42EB-B254-FD47308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6BE-BE94-4E1C-9963-FF81C755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F7D-E71E-4311-AB95-91FAAE96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F9B-5BB4-48C7-AFC6-CE4DD25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DB6-5555-4CCF-9680-34CBE932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9EC-D9DA-42DA-BA97-EA8EBE6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938B-91EB-4BB2-B92B-040B4046C0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redyt obrotow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1603440"/>
          <a:ext cx="8424720" cy="4514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let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d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ybkość uzyskania środkó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sokie koszty - prowizja i marża banku są znacząco wyższe niż w przypadku kredytu inwestycyjnego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rawa płynności finansowej przedsiębiorstw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nieczność posiadania odpowiedniego zabezpieczenia kredyt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iększa elastyczność w spłacie zadłużenia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graniczona wysokość kredytu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D:\Data\awinniczuk\AppData\Local\Microsoft\Windows\Temporary Internet Files\Content.IE5\N3EJHAEY\MC900441310[1].png"/>
          <p:cNvPicPr/>
          <p:nvPr/>
        </p:nvPicPr>
        <p:blipFill>
          <a:blip r:embed="rId1"/>
          <a:stretch/>
        </p:blipFill>
        <p:spPr>
          <a:xfrm>
            <a:off x="1062000" y="1592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:\Data\awinniczuk\AppData\Local\Microsoft\Windows\Temporary Internet Files\Content.IE5\KRKMH3WR\MC900432537[1].png"/>
          <p:cNvPicPr/>
          <p:nvPr/>
        </p:nvPicPr>
        <p:blipFill>
          <a:blip r:embed="rId2"/>
          <a:stretch/>
        </p:blipFill>
        <p:spPr>
          <a:xfrm>
            <a:off x="5475240" y="1685880"/>
            <a:ext cx="504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Lokata terminow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528560"/>
            <a:ext cx="864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okata pozwala na zdobycie dodatkowych przychodów z wolnych środków finans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grze odsetki od lokat wypłacane są co kwartał. Jeśli wpłacacie określoną kwotę to w następnym kwartale możecie się spodziewać odsetek w wysokości ¼ rocznego oprocentow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Zmiana wartości pieniądza w czasie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nflacj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jest to ogólny poziom wzrostu cen. Oznacza to, że za te same 100zł w przyszłym roku, będziemy w stanie kupić mniej niż w roku obecnym. Czyli zmieni się realna wartość pieniąd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419120" y="2781360"/>
            <a:ext cx="6305760" cy="2975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31920" y="1125360"/>
            <a:ext cx="8385120" cy="1656000"/>
          </a:xfrm>
          <a:prstGeom prst="rect">
            <a:avLst/>
          </a:prstGeom>
          <a:solidFill>
            <a:srgbClr val="4f81b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08000" y="5780160"/>
            <a:ext cx="903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Wykres przedstawiający indeksy inflacji ( rok poprzedni = 100) w Polsce w latach 1950 – 2010 (źródło: stat.gov.p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topy procentow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907416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rodowy Bank Polski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 co miesiąc poziom czterech stóp procentowyc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ferencyjnej, lombardowej, depozytowa, redyskonto weksl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la przedsiębiorcy najważniejsze są dwie stopy: referencyjna i lombardow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hart 6" descr=""/>
          <p:cNvPicPr/>
          <p:nvPr/>
        </p:nvPicPr>
        <p:blipFill>
          <a:blip r:embed="rId1"/>
          <a:stretch/>
        </p:blipFill>
        <p:spPr>
          <a:xfrm>
            <a:off x="1116000" y="3780000"/>
            <a:ext cx="6699240" cy="2382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116000" y="6093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tat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Stopy procentowe i ich wpływ na gospodarkę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920" y="1469880"/>
            <a:ext cx="86421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procentowe są instrumentem polityki pieniężnej państw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ają one na wszystkie aspekty gospodarki państwa. Dlatego każda ich zmiana powinna wpływać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urs walut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ielkość inwestycji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stóp procentowych nie powodują natychmiastowej zmiany niektórych z wymienionych wskaźników, np. inflacji, wielkość inwestycji. Ich zmiana może zostać dostrzeżone dopiero po kilku miesiąc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owymi zadaniami Narodowego Banku Polskiego jest wspomaganie wzrostu gospodarczego na jak najwyższym poziomie, utrzymywanie inflacji na poziomie celu inflacyjnego (2,5% +/-1 p.p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topa referencyjn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kreśla najniższe oprocentowanie krótkoterminowych papierów wartościowych sprzedawanych przez bank centralny bankom komercyjny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Stopa ta wpływa na poziom WIBOR-u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ng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Warsaw Interbank Offered Rate</a:t>
            </a:r>
            <a:r>
              <a:rPr b="0" i="1" lang="pl-PL" sz="2700" spc="-1" strike="noStrike">
                <a:solidFill>
                  <a:srgbClr val="000000"/>
                </a:solidFill>
                <a:latin typeface="Calibri"/>
              </a:rPr>
              <a:t>), który jest poziomem oprocentowania kredytów na rynku międzybankowy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procentowanie kredytu inwestycyjnego/hipotecznego zazwyczaj określa się w następujący sposób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Diagram 2" descr=""/>
          <p:cNvPicPr/>
          <p:nvPr/>
        </p:nvPicPr>
        <p:blipFill>
          <a:blip r:embed="rId1"/>
          <a:stretch/>
        </p:blipFill>
        <p:spPr>
          <a:xfrm>
            <a:off x="-55440" y="2419200"/>
            <a:ext cx="90709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topa lombardow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469520"/>
            <a:ext cx="864216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zazwyczaj wyższa niż stopa referencyj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punktu widzenia przedsiębiorstwa jest istotna, ponieważ na jej postawie wyliczane jest maksymalne oprocentowanie kart kredytowych, kredytów krótkoterminowych oraz pożyczek. Obecnie oprocentowanie to nie może przekraczać czterokrotności stopy lombardo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oszty Kredytu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920" y="1469520"/>
            <a:ext cx="864216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Kosztem podstawowym kredytu są odsetki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które zależą od oprocentowania nominalnego. Odsetki nie mogą przekraczać 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czterokrotności stopy lombardowej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Dodatkowymi kosztami mogą być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opłata przygotowawcz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rowizj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ubezpieczenie kredy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szystkie te koszty razem tworzą oprocentowanie rzeczywiste kredy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enie do tematyki finansowania zewnętrzn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Produkty oferowane przez bank w grze; Zmiana wartości pieniądza w czasie; Stopy procentowe Banku Centralneg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7080" y="11592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Czym jest bank?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5280" y="1412640"/>
            <a:ext cx="8317080" cy="1871640"/>
          </a:xfrm>
          <a:prstGeom prst="rect">
            <a:avLst/>
          </a:prstGeom>
          <a:solidFill>
            <a:srgbClr val="8eb4e3">
              <a:alpha val="3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pl-PL" sz="2600" spc="-1" strike="noStrike">
                <a:solidFill>
                  <a:srgbClr val="000000"/>
                </a:solidFill>
                <a:latin typeface="Calibri"/>
              </a:rPr>
              <a:t>Bank</a:t>
            </a:r>
            <a:r>
              <a:rPr b="0" i="1" lang="pl-PL" sz="2600" spc="-1" strike="noStrike">
                <a:solidFill>
                  <a:srgbClr val="000000"/>
                </a:solidFill>
                <a:latin typeface="Calibri"/>
              </a:rPr>
              <a:t> jest osobą prawną utworzoną zgodnie z przepisami ustaw, działającą na podstawie zezwoleń uprawniających do wykonywania czynności bankowych obciążających ryzykiem środki powierzone pod jakimkolwiek tytułem zwrotnym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stawa z dnia 29 sierpnia 1997 r. Prawo bankowe  Miejsce publikacji  Dz. U. z 2012 r. poz. 1376, z późn. zm. Dz. U. z 2010 r. Nr 257, poz. 172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24000" y="3716280"/>
            <a:ext cx="86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 jest instytucją finans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ej działalność podlega dodatkowym regulacjom prawnym mającym zwiększyć pewność i bezpieczeństwo klientów ban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stawową działalności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nku jest przyjmowa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pozytów pienięż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dzielanie kredyt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Obecnie banki oferują znacznie szerszą paletę usłu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eciwieństwie do instytucji parabankowych środki wpłacone do banku są gwarantowane w 100% do wysokości 100 tys. Eur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dolność kredytowa       (w Hotel Stars)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odtytuł 2"/>
          <p:cNvSpPr/>
          <p:nvPr/>
        </p:nvSpPr>
        <p:spPr>
          <a:xfrm>
            <a:off x="485640" y="1700280"/>
            <a:ext cx="8317080" cy="1871640"/>
          </a:xfrm>
          <a:prstGeom prst="rect">
            <a:avLst/>
          </a:prstGeom>
          <a:solidFill>
            <a:srgbClr val="8eb4e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Przez zdolność kredytową rozumie się zdolność do spłaty zaciągniętego kredytu wraz z odsetkami w terminach określonych w umowi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Ustawa z dnia 29 sierpnia 1997 r. Prawo bankowe  Miejsce publikacji  Dz. U. z 1997 r. Nr 140, poz. 939, art. 70.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24000" y="371628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dolności kredytowej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jest niezbędne do uzyskania kredyt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nk jest stroną któr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ceni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olność kredytową, osoby fizyczne i prawne mają osobne mierniki zdolności kredyt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czynników wpływających na zdolność kredytową zalicza się: wysokość i źródła dochodów, historię kredytową, rodzaj i wysokość kredytu czy okres kredytow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Zdolność kredytowa       (w Hotel Stars)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50920" y="1773360"/>
            <a:ext cx="8640720" cy="66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liczanie zdolności kredytow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f81bd"/>
                </a:solidFill>
                <a:latin typeface="Calibri"/>
              </a:rPr>
              <a:t>*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tość majątku firmy i zadłużenia firmy znajdziecie w Raporcie Operacyjnym, zakładka „wskaźniki firm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rtość firmy =  2 000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dolność kredytowa dla kredytu obrotowego: 2 000 000 x 1,5 = 3 000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dolność kredytowa dla kredytu inwestycyjnego: 2 000 000 x 2,5 = 5 000 0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71640" y="2349360"/>
          <a:ext cx="6851520" cy="1756080"/>
        </p:xfrm>
        <a:graphic>
          <a:graphicData uri="http://schemas.openxmlformats.org/drawingml/2006/table">
            <a:tbl>
              <a:tblPr/>
              <a:tblGrid>
                <a:gridCol w="1173240"/>
                <a:gridCol w="4476600"/>
                <a:gridCol w="1201680"/>
              </a:tblGrid>
              <a:tr h="64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olność kredyt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= Wartość firmy x mnoż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tość fir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= Majątek firmy – zadłużenie </a:t>
                      </a:r>
                      <a:r>
                        <a:rPr b="1" lang="pl-PL" sz="14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ożnik dla kredytu obrotow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,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ożnik dla kredytu inwestycyj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,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redyt inwestycyjn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565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 grze można zaciągnąć taki kredyt tylko podczas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drugiego roku.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Okres jego spłaty wynosi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20 kwartał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 Oznacza to, że jeżeli go zaciągniecie to będziecie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zadłużeni do końca gry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pl-PL" sz="2600" spc="-1" strike="noStrike" u="sng">
                <a:solidFill>
                  <a:srgbClr val="000000"/>
                </a:solidFill>
                <a:uFillTx/>
                <a:latin typeface="Calibri"/>
              </a:rPr>
              <a:t>Kredyt inwestycyjny możecie zaciągnąć tylko raz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24360" y="4699080"/>
            <a:ext cx="2791080" cy="863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716040" y="4505400"/>
            <a:ext cx="49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S – kwota zaciągniętego kred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n – liczba r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r – oprocentowanie nominalne (roczn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m – liczba rat w okres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q=1+ r/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1280" y="3551400"/>
            <a:ext cx="7561080" cy="24699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6040" y="35514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Sposób wyliczenia raty kredytu w grze, gdzie wszystkie raty są sobie rów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" y="115560"/>
            <a:ext cx="901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76092"/>
                </a:solidFill>
                <a:latin typeface="Calibri"/>
              </a:rPr>
              <a:t>Przykład wyliczenia raty kredytu w grze (wszystkie raty są sobie równe)</a:t>
            </a:r>
            <a:endParaRPr b="1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67" name="TextBox 1" descr=""/>
          <p:cNvPicPr/>
          <p:nvPr/>
        </p:nvPicPr>
        <p:blipFill>
          <a:blip r:embed="rId1"/>
          <a:stretch/>
        </p:blipFill>
        <p:spPr>
          <a:xfrm>
            <a:off x="2133720" y="3790800"/>
            <a:ext cx="466884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536840" y="1484280"/>
          <a:ext cx="5864040" cy="1755720"/>
        </p:xfrm>
        <a:graphic>
          <a:graphicData uri="http://schemas.openxmlformats.org/drawingml/2006/table">
            <a:tbl>
              <a:tblPr/>
              <a:tblGrid>
                <a:gridCol w="1004760"/>
                <a:gridCol w="3830760"/>
                <a:gridCol w="1028520"/>
              </a:tblGrid>
              <a:tr h="441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ota zaciągniętego kredy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rocentowanie nominalne (rocz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</a:t>
                      </a:r>
                      <a:r>
                        <a:rPr b="1" lang="pl-PL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rat w okre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TextBox 5" descr=""/>
          <p:cNvPicPr/>
          <p:nvPr/>
        </p:nvPicPr>
        <p:blipFill>
          <a:blip r:embed="rId2"/>
          <a:stretch/>
        </p:blipFill>
        <p:spPr>
          <a:xfrm>
            <a:off x="353880" y="4711680"/>
            <a:ext cx="91440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redyt inwestycyjn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700280"/>
          <a:ext cx="8424720" cy="4537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let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d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żliwość rozwoju przedsiębiorstwa bez angażowania środków własnych w znaczącym stopni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ługi okres rozpatrzenia wniosku kredytoweg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ryfikacja inwestycji przez specjalistów bankowych - może to pomóc w uniknięciu nietrafionych inwestycj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nieczność posiadania odpowiedniego zabezpieczenia kredyt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18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skie oprocentowanie (niższe niż przy kredycie obrotowym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tywne terminy spłat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D:\Data\awinniczuk\AppData\Local\Microsoft\Windows\Temporary Internet Files\Content.IE5\N3EJHAEY\MC900441310[1].png"/>
          <p:cNvPicPr/>
          <p:nvPr/>
        </p:nvPicPr>
        <p:blipFill>
          <a:blip r:embed="rId1"/>
          <a:stretch/>
        </p:blipFill>
        <p:spPr>
          <a:xfrm>
            <a:off x="1062000" y="16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:\Data\awinniczuk\AppData\Local\Microsoft\Windows\Temporary Internet Files\Content.IE5\KRKMH3WR\MC900432537[1].png"/>
          <p:cNvPicPr/>
          <p:nvPr/>
        </p:nvPicPr>
        <p:blipFill>
          <a:blip r:embed="rId2"/>
          <a:stretch/>
        </p:blipFill>
        <p:spPr>
          <a:xfrm>
            <a:off x="5475240" y="1790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Kredyt obrotowy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74840" y="141264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wala na obsługę bieżących zobowiązań oraz mniejszych inwesty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aszego konta automatycznie pobierane są tylko odsetki. Sami decydujecie kiedy chcecie spłacić kredy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rocentowanie kredytu w grze wynosi 15% w skali rok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Jakubowski Michał</cp:lastModifiedBy>
  <dcterms:modified xsi:type="dcterms:W3CDTF">2014-08-18T10:20:17Z</dcterms:modified>
  <cp:revision>85</cp:revision>
  <dc:subject/>
  <dc:title>Slajd 1</dc:title>
</cp:coreProperties>
</file>